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0D4-F3DC-4BE8-9B56-EFFEEBC8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5EF-8ADA-4CA5-9EC0-B11808F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B12-13D3-4CA3-95F9-40E0E1F2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D09-71E9-4BF5-9369-C549EE90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1C06-C4B7-4157-896D-620397E0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451C-5A8F-4D41-AC91-D0D8769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071F-3BA0-48B5-8E21-0C3B1F7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18EC-BC41-4AF7-BF1E-2D334BF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EC3A-8EA9-411F-8038-BDD4634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EEE-7456-4DA3-8327-95A88C3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3CFA-2D7E-4731-A839-386E65C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8B7-9B2E-420F-876B-F3EAC1F5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7747-1DD1-4C7E-B5E5-5478CA09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DA52-02CA-4D02-9BE9-08B178E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051-172A-4811-897B-8B306621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5B8-DE22-4948-BDD6-55EC2479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7171-920E-4F35-A8D8-0BAEA634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B46-C248-46F5-8168-D8076F4E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A1F-EC29-4152-8B27-8FBC632C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AE8-62E7-43A7-A987-19963F7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806-E88D-4772-B01B-1B2F9F6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A0C-E7E3-4311-8463-9E33847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C04-0A50-44FF-B143-AE295DC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E58-F314-4F99-8E89-E19872E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EC7-FC8C-4543-9F80-CCB30E717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B92-68AA-4716-BCEF-437CE605E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ang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wing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3049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4191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gi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rmth of spir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t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535040" cy="13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209680" y="43434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543800" y="36576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15000" y="4800600"/>
            <a:ext cx="1219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0:05:32Z</dcterms:created>
  <dc:creator>Kayla</dc:creator>
  <dc:description/>
  <dc:language>en-US</dc:language>
  <cp:lastModifiedBy>Kayla</cp:lastModifiedBy>
  <dcterms:modified xsi:type="dcterms:W3CDTF">2011-11-30T00:22:23Z</dcterms:modified>
  <cp:revision>2</cp:revision>
  <dc:subject/>
  <dc:title>Slide 1</dc:title>
</cp:coreProperties>
</file>